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PlaceHolder 1"/>
          <p:cNvSpPr>
            <a:spLocks noGrp="1"/>
          </p:cNvSpPr>
          <p:nvPr>
            <p:ph type="sldImg"/>
          </p:nvPr>
        </p:nvSpPr>
        <p:spPr>
          <a:xfrm>
            <a:off x="1333440" y="812880"/>
            <a:ext cx="4888080" cy="40053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23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PlaceHolder 4"/>
          <p:cNvSpPr>
            <a:spLocks noGrp="1"/>
          </p:cNvSpPr>
          <p:nvPr>
            <p:ph type="dt" idx="16"/>
          </p:nvPr>
        </p:nvSpPr>
        <p:spPr>
          <a:xfrm>
            <a:off x="427824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PlaceHolder 5"/>
          <p:cNvSpPr>
            <a:spLocks noGrp="1"/>
          </p:cNvSpPr>
          <p:nvPr>
            <p:ph type="ftr" idx="17"/>
          </p:nvPr>
        </p:nvSpPr>
        <p:spPr>
          <a:xfrm>
            <a:off x="0" y="10156680"/>
            <a:ext cx="3278160" cy="53208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PlaceHolder 6"/>
          <p:cNvSpPr>
            <a:spLocks noGrp="1"/>
          </p:cNvSpPr>
          <p:nvPr>
            <p:ph type="sldNum" idx="18"/>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1450AA50-E1D8-4801-A976-F91BDBAA0C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0B6C428-674A-47D0-8708-F449046A5607}"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0"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 I’m Barry Sanders and this is David Arcoleo.  We’re from the Beespace project at the University of Illinois.  We’re here to present the latest version of Beespace Navigator and the Gene Summarizer.   Please feel free to follow the URL on this page (beespace.uiuc.edu); but I want to let you know that the hotel network is – for reasons unknown – blocking all queries to our Beespace software demo.  It’s OK because we have a complete copy of it on our local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is funded by the NSF Frontiers in Integrative Biology Research. We’re currently in year 5 of the 5 year project.  Beespace Navigator is our flagship product, which we’re demonstrating today.  After I get through these slides, David will do a live demo of the new v4.0 beta, which we’re premiering toda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8080" y="812880"/>
            <a:ext cx="5338800" cy="4005360"/>
          </a:xfrm>
          <a:prstGeom prst="rect">
            <a:avLst/>
          </a:prstGeom>
          <a:ln w="0">
            <a:noFill/>
          </a:ln>
        </p:spPr>
      </p:sp>
      <p:sp>
        <p:nvSpPr>
          <p:cNvPr id="26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Navigator is a highly interactive knowledge mining environment for functional analysis research.   With it, researchers can create custom document collections and refine them using various functional modules including topic map generation, gene summarization and annotation.  I’ve left some handouts on the back table if you’d like to take one with you.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66C3665-15DB-49D2-96CA-21F5E31F34E2}"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7" name="PlaceHolder 1"/>
          <p:cNvSpPr>
            <a:spLocks noGrp="1"/>
          </p:cNvSpPr>
          <p:nvPr>
            <p:ph type="sldImg"/>
          </p:nvPr>
        </p:nvSpPr>
        <p:spPr>
          <a:xfrm>
            <a:off x="1108080" y="812880"/>
            <a:ext cx="5338800" cy="4005360"/>
          </a:xfrm>
          <a:prstGeom prst="rect">
            <a:avLst/>
          </a:prstGeom>
          <a:ln w="0">
            <a:noFill/>
          </a:ln>
        </p:spPr>
      </p:sp>
      <p:sp>
        <p:nvSpPr>
          <p:cNvPr id="26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vigator has evolved significantly over the past 4 years.   The text mining components have been working well for a while; but the user interface has been the major drawback.  It just wasn’t as usable as it should have been.  Purpose of collections is to narrow down documents over which Beespace applications operate.  Used as a filter to enhance relevance of resul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8080" y="812880"/>
            <a:ext cx="5338800" cy="4005360"/>
          </a:xfrm>
          <a:prstGeom prst="rect">
            <a:avLst/>
          </a:prstGeom>
          <a:ln w="0">
            <a:noFill/>
          </a:ln>
        </p:spPr>
      </p:sp>
      <p:sp>
        <p:nvSpPr>
          <p:cNvPr id="27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has always been a discovery environment.  But now it is a much more usable discovery environment, thanks to a unified AJAX user interface.  Biologists engaged in literature discovery in support of hypothesis building employ a cyclic, highly iterative workflow as they find clues within the larger collections.  We keep a complete history of those iterations which can be revisited and reused at any time.  We’ve exposed more metadata, and added tags, for use in the discovery and collection management process.  Currently, collection sharing is our only social feature; but we plan to expand the social features within BeeSpa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97E97059-6E52-43E1-B9DC-3F12A05C2AFD}"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2"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Automated Curation, we mean that the Gene Summarizer is designed to do what human curators do, completely automatically and adaptively, using machine learning and statistical natural language processing algorithms that have been heavily customized.   According to our P.I., the Summarizer is an Automatic version of MOD Annotation in FlyBase.   Given gene names as input, the Summarizer finds the most relevant sentences from the federated corpora (currently over 17 million documents, including all of Medline), and automatically categorizes them into useful and relevant categories such as protein domain and phenotype func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6E8CA12F-2D26-47FB-81FA-7E095E645D5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5" name="PlaceHolder 1"/>
          <p:cNvSpPr>
            <a:spLocks noGrp="1"/>
          </p:cNvSpPr>
          <p:nvPr>
            <p:ph type="sldImg"/>
          </p:nvPr>
        </p:nvSpPr>
        <p:spPr>
          <a:xfrm>
            <a:off x="1108080" y="812880"/>
            <a:ext cx="5340240" cy="4006800"/>
          </a:xfrm>
          <a:prstGeom prst="rect">
            <a:avLst/>
          </a:prstGeom>
          <a:ln w="0">
            <a:noFill/>
          </a:ln>
        </p:spPr>
      </p:sp>
      <p:sp>
        <p:nvSpPr>
          <p:cNvPr id="276" name="PlaceHolder 2"/>
          <p:cNvSpPr>
            <a:spLocks noGrp="1"/>
          </p:cNvSpPr>
          <p:nvPr>
            <p:ph type="body"/>
          </p:nvPr>
        </p:nvSpPr>
        <p:spPr>
          <a:xfrm>
            <a:off x="755280" y="5078520"/>
            <a:ext cx="6046920" cy="47196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y publish the Gene Summarizer as a web service?  The indexes are large.  The code isn’t easy to manage or use.  It requires a great deal of maintenance to keep the Medline and other literature indexes current.  One indexing pass might take several days on a 16-core server.  Since the Summarizer accepts simple inputs and produces relatively compact output, which is already in XML, it is ideally suited for publishing as a RESTful web servic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ACE30942-F4E8-47D8-8328-CE93B0AC63D0}"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8" name="PlaceHolder 1"/>
          <p:cNvSpPr>
            <a:spLocks noGrp="1"/>
          </p:cNvSpPr>
          <p:nvPr>
            <p:ph type="sldImg"/>
          </p:nvPr>
        </p:nvSpPr>
        <p:spPr>
          <a:xfrm>
            <a:off x="1108080" y="812880"/>
            <a:ext cx="5340240" cy="4006800"/>
          </a:xfrm>
          <a:prstGeom prst="rect">
            <a:avLst/>
          </a:prstGeom>
          <a:ln w="0">
            <a:noFill/>
          </a:ln>
        </p:spPr>
      </p:sp>
      <p:sp>
        <p:nvSpPr>
          <p:cNvPr id="279" name="PlaceHolder 2"/>
          <p:cNvSpPr>
            <a:spLocks noGrp="1"/>
          </p:cNvSpPr>
          <p:nvPr>
            <p:ph type="body"/>
          </p:nvPr>
        </p:nvSpPr>
        <p:spPr>
          <a:xfrm>
            <a:off x="755280" y="5078520"/>
            <a:ext cx="6046920" cy="47196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uldn’t be simpler.   Scott has agreed to put this link into the GBrowse distribu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8080" y="812880"/>
            <a:ext cx="5338800" cy="4005360"/>
          </a:xfrm>
          <a:prstGeom prst="rect">
            <a:avLst/>
          </a:prstGeom>
          <a:ln w="0">
            <a:noFill/>
          </a:ln>
        </p:spPr>
      </p:sp>
      <p:sp>
        <p:nvSpPr>
          <p:cNvPr id="28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s so much we plan to do with Beespace.  Some of the G.O. functionality has been written, and will soon be integrated into the UI.  Social networking has rich possibilities.  For instance, we might track citation popularity, or user ratings of collection filters, so users can see what other researchers are doing. We’re going to continue refining and enhancing the AJAX discovery environment.  I spoke with Scott yesterday about adding the Ultra Simple Integration of the Gene Summarizer to the GBrowse distribution.  It opens in a new browser tab, so it won’t break the workflo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71588-7446-4D7E-9426-524CC096D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0"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21984-D28D-4799-8F8A-AF9120F7A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F67BC-B390-4F53-8281-4A3C69548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8"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81770-E747-42C5-B875-B181F7B21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5C8DA-749E-4580-8B12-A88E09B48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2"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6121F-5CCA-43A3-88FC-D8E4959A8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4"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A36B2-4555-4BE1-B755-28BDCAA28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B95D0-917A-4383-A2BC-5B27F9288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E55AD-6932-4420-A025-75E9B36FA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776B8-459A-47B3-8B77-EE0D493A2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628A2-D11F-4EEE-A203-C16E39064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9"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D01D0-C3CD-4626-B0D2-D97C58882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5"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AC05C-0D8A-4DE4-9A40-EE5CF56FC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B4F56-2C83-4931-B0AA-ED11313D8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3"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B1791-CCF5-4DC7-991F-3B134C001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7A612-987D-4ACF-A869-E5415220C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01"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40E72-50D7-4970-ADDC-5C9B268CC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BE6287-4353-403D-AA2D-58E4AE919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3"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A1B2C-B69F-4CAC-9556-6ABD88BFB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5"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390369-BC3E-4851-BE95-1471F9FBD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E5EB1-5388-443E-9D08-74E9ED5D5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03079-1A38-4DD8-A5B4-2423A81D6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1"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B47A7-889F-4C32-91A4-3B7DF3B0A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B70F6-02A4-4496-B4BA-4A76B229F3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61B4D-FB3F-4CA0-A0D6-5782639A5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E10AD-D6F3-4814-A956-F0A5C0061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7883B-B770-4490-8790-3ED11B024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4"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30737-7E5F-41AE-BEA6-5D9472D2F4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7"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E78E86-7005-470B-9A74-56A95800E0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42"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35E8BF-932C-473B-8B2A-309A751C74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916538-A9C3-4643-A687-D77650CBB9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4"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09841-DFA1-41CF-BF39-B4AC66BC6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36C9D3-6A63-4551-A3FB-987D6230C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3"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92E7-CC6C-4462-8267-816F24F61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0EBB28-41E5-4A9F-96B9-E9B9923D7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F237D-9140-4BEA-9BB0-8A1F913A4C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97D44F-5935-4715-9D92-C8E3C20D3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151F2-4F66-4C80-8F6E-1F629AE8D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9771E-93FD-4CA1-8017-685993181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1C9E3-BB11-44F8-8B0B-A39871176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5"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E12C7-AE5E-4D73-869B-5AC6A2957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4D5F85-FED4-4105-B78C-F714BF5181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83"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E367DA-F585-4B05-862A-6B8B2798AB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8AFDEB-2296-4FCF-9E83-D8FBB22478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77F67-3A8E-43B9-B311-14F2A02B9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5"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A28D08-4A4A-45D0-A4C8-0F1E4A859C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7"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06996E-B06D-481B-BC0F-4DC5A160DF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9"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07CF63-EA92-4A53-9495-5E66A6589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AB2F4-545F-42B0-B822-ACB3DF76F7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C19E6E-D474-4776-A9A6-E758166A7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86928-E0BA-4111-9246-C3CC66BC0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B6B77-73B5-4D5E-892A-BDC30D831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6A585-6F42-4C8A-AC22-D84157F39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6"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77F6E1-5BCF-4601-99E8-FC4127263D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653186-B118-4242-A4AB-2799A0D71F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4FAE4-219D-4A5E-847C-FFD07066B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24"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74811E-AA0D-4643-A63B-58C2AB3233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7973A-ABBD-416B-AC80-8CEBD3C24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2"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277F-9F83-4EAA-89F5-432546F08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9C1FE-F02B-496A-B74F-9185180E9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293760" y="-258840"/>
            <a:ext cx="11017440" cy="2514600"/>
          </a:xfrm>
          <a:prstGeom prst="rect">
            <a:avLst/>
          </a:prstGeom>
          <a:ln w="0">
            <a:noFill/>
          </a:ln>
        </p:spPr>
      </p:pic>
      <p:sp>
        <p:nvSpPr>
          <p:cNvPr id="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DA5A8-8078-4E2E-ADC6-BA3A26141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10"/>
          <p:cNvGrpSpPr/>
          <p:nvPr/>
        </p:nvGrpSpPr>
        <p:grpSpPr>
          <a:xfrm>
            <a:off x="-293760" y="5541840"/>
            <a:ext cx="10609200" cy="2352600"/>
            <a:chOff x="-293760" y="5541840"/>
            <a:chExt cx="10609200" cy="2352600"/>
          </a:xfrm>
        </p:grpSpPr>
        <p:sp>
          <p:nvSpPr>
            <p:cNvPr id="7" name="AutoShape 9"/>
            <p:cNvSpPr/>
            <p:nvPr/>
          </p:nvSpPr>
          <p:spPr>
            <a:xfrm>
              <a:off x="-293760" y="5541840"/>
              <a:ext cx="10593360" cy="2352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8" name="Picture 11" descr=""/>
            <p:cNvPicPr/>
            <p:nvPr/>
          </p:nvPicPr>
          <p:blipFill>
            <a:blip r:embed="rId3"/>
            <a:stretch/>
          </p:blipFill>
          <p:spPr>
            <a:xfrm>
              <a:off x="-293760" y="5541840"/>
              <a:ext cx="10609200" cy="2344680"/>
            </a:xfrm>
            <a:prstGeom prst="rect">
              <a:avLst/>
            </a:prstGeom>
            <a:ln w="0">
              <a:noFill/>
            </a:ln>
          </p:spPr>
        </p:pic>
        <p:pic>
          <p:nvPicPr>
            <p:cNvPr id="9" name="Picture 12" descr=""/>
            <p:cNvPicPr/>
            <p:nvPr/>
          </p:nvPicPr>
          <p:blipFill>
            <a:blip r:embed="rId4"/>
            <a:stretch/>
          </p:blipFill>
          <p:spPr>
            <a:xfrm>
              <a:off x="-293760" y="5541840"/>
              <a:ext cx="10609200" cy="2344680"/>
            </a:xfrm>
            <a:prstGeom prst="rect">
              <a:avLst/>
            </a:prstGeom>
            <a:ln w="0">
              <a:noFill/>
            </a:ln>
          </p:spPr>
        </p:pic>
        <p:sp>
          <p:nvSpPr>
            <p:cNvPr id="10" name="Freeform 13"/>
            <p:cNvSpPr/>
            <p:nvPr/>
          </p:nvSpPr>
          <p:spPr>
            <a:xfrm>
              <a:off x="9145440" y="6503760"/>
              <a:ext cx="276120" cy="654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Freeform 14"/>
            <p:cNvSpPr/>
            <p:nvPr/>
          </p:nvSpPr>
          <p:spPr>
            <a:xfrm>
              <a:off x="9070560" y="6186240"/>
              <a:ext cx="2336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Freeform 15"/>
            <p:cNvSpPr/>
            <p:nvPr/>
          </p:nvSpPr>
          <p:spPr>
            <a:xfrm>
              <a:off x="8654760" y="6503760"/>
              <a:ext cx="255600" cy="66528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 name="Freeform 16"/>
            <p:cNvSpPr/>
            <p:nvPr/>
          </p:nvSpPr>
          <p:spPr>
            <a:xfrm>
              <a:off x="8740440" y="6186240"/>
              <a:ext cx="2444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Freeform 17"/>
            <p:cNvSpPr/>
            <p:nvPr/>
          </p:nvSpPr>
          <p:spPr>
            <a:xfrm>
              <a:off x="8858160" y="6313320"/>
              <a:ext cx="361800" cy="9079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 name="Freeform 18"/>
            <p:cNvSpPr/>
            <p:nvPr/>
          </p:nvSpPr>
          <p:spPr>
            <a:xfrm>
              <a:off x="8942040" y="6333840"/>
              <a:ext cx="160560" cy="84240"/>
            </a:xfrm>
            <a:prstGeom prst="pie">
              <a:avLst/>
            </a:prstGeom>
            <a:noFill/>
            <a:ln w="0">
              <a:solidFill>
                <a:srgbClr val="ffffff"/>
              </a:solidFill>
            </a:ln>
          </p:spPr>
          <p:style>
            <a:lnRef idx="0"/>
            <a:fillRef idx="0"/>
            <a:effectRef idx="0"/>
            <a:fontRef idx="minor"/>
          </p:style>
          <p:txBody>
            <a:bodyPr lIns="90000" rIns="90000" tIns="37800" bIns="37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 name="Freeform 19"/>
            <p:cNvSpPr/>
            <p:nvPr/>
          </p:nvSpPr>
          <p:spPr>
            <a:xfrm>
              <a:off x="8964360" y="6345000"/>
              <a:ext cx="117360" cy="63360"/>
            </a:xfrm>
            <a:prstGeom prst="pie">
              <a:avLst/>
            </a:prstGeom>
            <a:noFill/>
            <a:ln w="0">
              <a:solidFill>
                <a:srgbClr val="ffffff"/>
              </a:solid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 name="Freeform 20"/>
            <p:cNvSpPr/>
            <p:nvPr/>
          </p:nvSpPr>
          <p:spPr>
            <a:xfrm>
              <a:off x="8942040" y="6322680"/>
              <a:ext cx="16056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 name="Freeform 21"/>
            <p:cNvSpPr/>
            <p:nvPr/>
          </p:nvSpPr>
          <p:spPr>
            <a:xfrm>
              <a:off x="8964360" y="6345000"/>
              <a:ext cx="117360" cy="63360"/>
            </a:xfrm>
            <a:prstGeom prst="pie">
              <a:avLst/>
            </a:prstGeom>
            <a:solidFill>
              <a:srgbClr val="020202"/>
            </a:solidFill>
            <a:ln w="0">
              <a:no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Freeform 22"/>
            <p:cNvSpPr/>
            <p:nvPr/>
          </p:nvSpPr>
          <p:spPr>
            <a:xfrm>
              <a:off x="5997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 name="Freeform 23"/>
            <p:cNvSpPr/>
            <p:nvPr/>
          </p:nvSpPr>
          <p:spPr>
            <a:xfrm>
              <a:off x="89820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 name="Freeform 24"/>
            <p:cNvSpPr/>
            <p:nvPr/>
          </p:nvSpPr>
          <p:spPr>
            <a:xfrm>
              <a:off x="1163520" y="6671880"/>
              <a:ext cx="2458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 name="Freeform 25"/>
            <p:cNvSpPr/>
            <p:nvPr/>
          </p:nvSpPr>
          <p:spPr>
            <a:xfrm>
              <a:off x="14619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Freeform 26"/>
            <p:cNvSpPr/>
            <p:nvPr/>
          </p:nvSpPr>
          <p:spPr>
            <a:xfrm>
              <a:off x="1760400" y="6671880"/>
              <a:ext cx="233280" cy="38124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 name="Freeform 27"/>
            <p:cNvSpPr/>
            <p:nvPr/>
          </p:nvSpPr>
          <p:spPr>
            <a:xfrm>
              <a:off x="203652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 name="Freeform 28"/>
            <p:cNvSpPr/>
            <p:nvPr/>
          </p:nvSpPr>
          <p:spPr>
            <a:xfrm>
              <a:off x="2312640" y="6671880"/>
              <a:ext cx="24444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 name="Freeform 29"/>
            <p:cNvSpPr/>
            <p:nvPr/>
          </p:nvSpPr>
          <p:spPr>
            <a:xfrm>
              <a:off x="2599920" y="6671880"/>
              <a:ext cx="2350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Rectangle 30"/>
            <p:cNvSpPr/>
            <p:nvPr/>
          </p:nvSpPr>
          <p:spPr>
            <a:xfrm>
              <a:off x="590400" y="7063920"/>
              <a:ext cx="2393280" cy="13716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20202"/>
                  </a:solidFill>
                  <a:latin typeface="Arial"/>
                </a:rPr>
                <a:t> </a:t>
              </a:r>
              <a:r>
                <a:rPr b="0" lang="en-US" sz="1000" spc="-1" strike="noStrike">
                  <a:solidFill>
                    <a:srgbClr val="020202"/>
                  </a:solidFill>
                  <a:latin typeface="Arial"/>
                </a:rPr>
                <a:t>University of Illinois at Urbana-Champaign</a:t>
              </a:r>
              <a:endParaRPr b="0" lang="en-US" sz="10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2"/>
          <a:stretch/>
        </p:blipFill>
        <p:spPr>
          <a:xfrm>
            <a:off x="-392040" y="5173560"/>
            <a:ext cx="10747440" cy="2386080"/>
          </a:xfrm>
          <a:prstGeom prst="rect">
            <a:avLst/>
          </a:prstGeom>
          <a:ln w="0">
            <a:noFill/>
          </a:ln>
        </p:spPr>
      </p:pic>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7E941-BCB1-450C-8FED-9B4D9A12399B}"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pic>
        <p:nvPicPr>
          <p:cNvPr id="70" name="Picture 7" descr=""/>
          <p:cNvPicPr/>
          <p:nvPr/>
        </p:nvPicPr>
        <p:blipFill>
          <a:blip r:embed="rId3"/>
          <a:stretch/>
        </p:blipFill>
        <p:spPr>
          <a:xfrm>
            <a:off x="0" y="-768240"/>
            <a:ext cx="10080720" cy="264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3"/>
          <p:cNvSpPr>
            <a:spLocks noGrp="1"/>
          </p:cNvSpPr>
          <p:nvPr>
            <p:ph type="dt" idx="7"/>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PlaceHolder 4"/>
          <p:cNvSpPr>
            <a:spLocks noGrp="1"/>
          </p:cNvSpPr>
          <p:nvPr>
            <p:ph type="ftr" idx="8"/>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PlaceHolder 5"/>
          <p:cNvSpPr>
            <a:spLocks noGrp="1"/>
          </p:cNvSpPr>
          <p:nvPr>
            <p:ph type="sldNum" idx="9"/>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FF58D-E668-4573-AF47-FAF88E8CE4DE}"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10"/>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PlaceHolder 4"/>
          <p:cNvSpPr>
            <a:spLocks noGrp="1"/>
          </p:cNvSpPr>
          <p:nvPr>
            <p:ph type="ftr" idx="11"/>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PlaceHolder 5"/>
          <p:cNvSpPr>
            <a:spLocks noGrp="1"/>
          </p:cNvSpPr>
          <p:nvPr>
            <p:ph type="sldNum" idx="12"/>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F6F3B-823B-4470-B2C5-8D9E8BBD6878}"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3"/>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0CF4F-C48F-4191-9A90-1BE2F360B69D}"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55280" y="2441520"/>
            <a:ext cx="8567640" cy="16207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r>
              <a:rPr b="0" lang="en-US" sz="4400" spc="-1" strike="noStrike">
                <a:solidFill>
                  <a:srgbClr val="000000"/>
                </a:solidFill>
                <a:latin typeface="Arial Black"/>
              </a:rPr>
              <a:t>BeeSpace Navigator v4.0</a:t>
            </a:r>
            <a:br>
              <a:rPr sz="4400"/>
            </a:br>
            <a:r>
              <a:rPr b="0" lang="en-US" sz="4400" spc="-1" strike="noStrike">
                <a:solidFill>
                  <a:srgbClr val="000000"/>
                </a:solidFill>
                <a:latin typeface="Arial Black"/>
              </a:rPr>
              <a:t>and Gene Summarizer</a:t>
            </a:r>
            <a:br>
              <a:rPr sz="4400"/>
            </a:br>
            <a:r>
              <a:rPr b="0" lang="en-US" sz="4400" spc="-1" strike="noStrike">
                <a:solidFill>
                  <a:srgbClr val="000000"/>
                </a:solidFill>
                <a:latin typeface="Arial Black"/>
              </a:rPr>
              <a:t>beespace.uiuc.edu</a:t>
            </a:r>
            <a:endParaRPr b="0" lang="en-US" sz="4400" spc="-1" strike="noStrike">
              <a:solidFill>
                <a:srgbClr val="000000"/>
              </a:solidFill>
              <a:latin typeface="Impact"/>
            </a:endParaRPr>
          </a:p>
        </p:txBody>
      </p:sp>
      <p:sp>
        <p:nvSpPr>
          <p:cNvPr id="239" name="PlaceHolder 2"/>
          <p:cNvSpPr>
            <a:spLocks noGrp="1"/>
          </p:cNvSpPr>
          <p:nvPr>
            <p:ph type="subTitle"/>
          </p:nvPr>
        </p:nvSpPr>
        <p:spPr>
          <a:xfrm>
            <a:off x="1510920" y="4377960"/>
            <a:ext cx="7056360" cy="1933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240" name="Picture 3" descr=""/>
          <p:cNvPicPr/>
          <p:nvPr/>
        </p:nvPicPr>
        <p:blipFill>
          <a:blip r:embed="rId1"/>
          <a:stretch/>
        </p:blipFill>
        <p:spPr>
          <a:xfrm>
            <a:off x="0" y="0"/>
            <a:ext cx="10499760" cy="287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More to Come!</a:t>
            </a:r>
            <a:endParaRPr b="0" lang="en-US" sz="4800" spc="-1" strike="noStrike">
              <a:solidFill>
                <a:srgbClr val="000000"/>
              </a:solidFill>
              <a:latin typeface="Impact"/>
            </a:endParaRPr>
          </a:p>
        </p:txBody>
      </p:sp>
      <p:sp>
        <p:nvSpPr>
          <p:cNvPr id="25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rPr>
              <a:t>beespace.uiuc.ed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The BeeSpace Project</a:t>
            </a:r>
            <a:endParaRPr b="0" lang="en-US" sz="4800" spc="-1" strike="noStrike">
              <a:solidFill>
                <a:srgbClr val="000000"/>
              </a:solidFill>
              <a:latin typeface="Impact"/>
            </a:endParaRPr>
          </a:p>
        </p:txBody>
      </p:sp>
      <p:sp>
        <p:nvSpPr>
          <p:cNvPr id="242"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5-year NSF-funded FIBR project</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At University of Illinois Urbana-Champaign</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roject Goals</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i="1" lang="en-GB" sz="2800" spc="-1" strike="noStrike">
                <a:solidFill>
                  <a:srgbClr val="000000"/>
                </a:solidFill>
                <a:latin typeface="Arial"/>
              </a:rPr>
              <a:t>Develop</a:t>
            </a:r>
            <a:r>
              <a:rPr b="0" lang="en-GB" sz="2800" spc="-1" strike="noStrike">
                <a:solidFill>
                  <a:srgbClr val="000000"/>
                </a:solidFill>
                <a:latin typeface="Arial"/>
              </a:rPr>
              <a:t> </a:t>
            </a:r>
            <a:r>
              <a:rPr b="1" i="1" lang="en-GB" sz="2800" spc="-1" strike="noStrike">
                <a:solidFill>
                  <a:srgbClr val="000000"/>
                </a:solidFill>
                <a:latin typeface="Arial"/>
              </a:rPr>
              <a:t>open bioinformatics resource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pport functional analysis of social behavior</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Initial prototype focused on honey bee research</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Main software product is Beespace Navigator</a:t>
            </a:r>
            <a:endParaRPr b="0" lang="en-US" sz="2800" spc="-1" strike="noStrike">
              <a:solidFill>
                <a:srgbClr val="000000"/>
              </a:solidFill>
              <a:latin typeface="Arial"/>
            </a:endParaRPr>
          </a:p>
          <a:p>
            <a:pPr marL="430200" indent="0">
              <a:lnSpc>
                <a:spcPct val="93000"/>
              </a:lnSpc>
              <a:spcAft>
                <a:spcPts val="1426"/>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What is BeeSpace Navigator?</a:t>
            </a:r>
            <a:endParaRPr b="0" lang="en-US" sz="4800" spc="-1" strike="noStrike">
              <a:solidFill>
                <a:srgbClr val="000000"/>
              </a:solidFill>
              <a:latin typeface="Impact"/>
            </a:endParaRPr>
          </a:p>
        </p:txBody>
      </p:sp>
      <p:pic>
        <p:nvPicPr>
          <p:cNvPr id="244" name="Picture 4" descr=""/>
          <p:cNvPicPr/>
          <p:nvPr/>
        </p:nvPicPr>
        <p:blipFill>
          <a:blip r:embed="rId1"/>
          <a:stretch/>
        </p:blipFill>
        <p:spPr>
          <a:xfrm>
            <a:off x="1154160" y="1798560"/>
            <a:ext cx="7932600" cy="46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Technology</a:t>
            </a:r>
            <a:endParaRPr b="0" lang="en-US" sz="4800" spc="-1" strike="noStrike">
              <a:solidFill>
                <a:srgbClr val="000000"/>
              </a:solidFill>
              <a:latin typeface="Impact"/>
            </a:endParaRPr>
          </a:p>
        </p:txBody>
      </p:sp>
      <p:sp>
        <p:nvSpPr>
          <p:cNvPr id="24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AJAX-based user interfa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consumes web services</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Python + Django backend </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Migrated from Java/JSF codebas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supports RESTful URL mgmt.</a:t>
            </a:r>
            <a:endParaRPr b="0" lang="en-US" sz="28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Features</a:t>
            </a:r>
            <a:endParaRPr b="0" lang="en-US" sz="4800" spc="-1" strike="noStrike">
              <a:solidFill>
                <a:srgbClr val="000000"/>
              </a:solidFill>
              <a:latin typeface="Impact"/>
            </a:endParaRPr>
          </a:p>
        </p:txBody>
      </p:sp>
      <p:sp>
        <p:nvSpPr>
          <p:cNvPr id="24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JAX discovery environ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ractive, iterative collection building</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utomatic collection version manage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ich collection metadata</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Unified UI expresses research workflow</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ocial collection management</a:t>
            </a:r>
            <a:endParaRPr b="0" lang="en-US" sz="3200" spc="-1" strike="noStrike">
              <a:solidFill>
                <a:srgbClr val="000000"/>
              </a:solidFill>
              <a:latin typeface="Arial"/>
            </a:endParaRPr>
          </a:p>
          <a:p>
            <a:pPr marL="43020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a:t>
            </a:r>
            <a:endParaRPr b="0" lang="en-US" sz="4800" spc="-1" strike="noStrike">
              <a:solidFill>
                <a:srgbClr val="000000"/>
              </a:solidFill>
              <a:latin typeface="Impact"/>
            </a:endParaRPr>
          </a:p>
        </p:txBody>
      </p:sp>
      <p:sp>
        <p:nvSpPr>
          <p:cNvPr id="250" name="PlaceHolder 2"/>
          <p:cNvSpPr>
            <a:spLocks noGrp="1"/>
          </p:cNvSpPr>
          <p:nvPr>
            <p:ph/>
          </p:nvPr>
        </p:nvSpPr>
        <p:spPr>
          <a:xfrm>
            <a:off x="502920" y="1767960"/>
            <a:ext cx="9070920" cy="1511964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Automated curation</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xtracts gene summaries from literatur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 version of MOD Annotation (FlyBas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sults targeted to specific collection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xtracts gene sentences from custom collection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eg: across organism or behavior or method</a:t>
            </a:r>
            <a:endParaRPr b="0" lang="en-US" sz="24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ally categorizes gene sentence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protein domain, phenotype function, genetic interaction</a:t>
            </a:r>
            <a:endParaRPr b="0" lang="en-US" sz="2400" spc="-1" strike="noStrike">
              <a:solidFill>
                <a:srgbClr val="000000"/>
              </a:solidFill>
              <a:latin typeface="Arial"/>
            </a:endParaRPr>
          </a:p>
          <a:p>
            <a:pPr lvl="1" marL="861840" indent="0">
              <a:lnSpc>
                <a:spcPct val="93000"/>
              </a:lnSpc>
              <a:spcAft>
                <a:spcPts val="1137"/>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Web Service</a:t>
            </a:r>
            <a:endParaRPr b="0" lang="en-US" sz="4800" spc="-1" strike="noStrike">
              <a:solidFill>
                <a:srgbClr val="000000"/>
              </a:solidFill>
              <a:latin typeface="Impact"/>
            </a:endParaRPr>
          </a:p>
        </p:txBody>
      </p:sp>
      <p:sp>
        <p:nvSpPr>
          <p:cNvPr id="252"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lan to publish Beespace tools as web services</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Gene Summarizer is first available servi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imple RESTful URL service API</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turns JSON data structure (XML to com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mmarizer also available as web application</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asy integration</a:t>
            </a:r>
            <a:r>
              <a:rPr b="0" lang="en-GB" sz="2800" spc="-1" strike="noStrike">
                <a:solidFill>
                  <a:srgbClr val="000000"/>
                </a:solidFill>
                <a:latin typeface="Arial"/>
              </a:rPr>
              <a:t> with existing web applications</a:t>
            </a:r>
            <a:endParaRPr b="0" lang="en-US" sz="28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How easy, you ask?...</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Ultra-Simple GBrowse Integration</a:t>
            </a:r>
            <a:endParaRPr b="0" lang="en-US" sz="4800" spc="-1" strike="noStrike">
              <a:solidFill>
                <a:srgbClr val="000000"/>
              </a:solidFill>
              <a:latin typeface="Impact"/>
            </a:endParaRPr>
          </a:p>
        </p:txBody>
      </p:sp>
      <p:sp>
        <p:nvSpPr>
          <p:cNvPr id="254"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Starting with a generic install of GBrowse:</a:t>
            </a:r>
            <a:endParaRPr b="0" lang="en-US" sz="32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Change 1 line of code</a:t>
            </a:r>
            <a:r>
              <a:rPr b="0" lang="en-GB" sz="3200" spc="-1" strike="noStrike">
                <a:solidFill>
                  <a:srgbClr val="000000"/>
                </a:solidFill>
                <a:latin typeface="Arial"/>
              </a:rPr>
              <a:t> in file “gbrowse_details”</a:t>
            </a:r>
            <a:endParaRPr b="0" lang="en-US" sz="32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From</a:t>
            </a:r>
            <a:r>
              <a:rPr b="0" lang="en-GB" sz="2800" spc="-1" strike="noStrike">
                <a:solidFill>
                  <a:srgbClr val="000000"/>
                </a:solidFill>
                <a:latin typeface="Arial"/>
              </a:rPr>
              <a:t>: </a:t>
            </a:r>
            <a:endParaRPr b="0" lang="en-US" sz="28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head_name Details");</a:t>
            </a:r>
            <a:endParaRPr b="0" lang="en-US" sz="26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To</a:t>
            </a:r>
            <a:r>
              <a:rPr b="0" lang="en-GB" sz="3200" spc="-1" strike="noStrike">
                <a:solidFill>
                  <a:srgbClr val="000000"/>
                </a:solidFill>
                <a:latin typeface="Arial"/>
              </a:rPr>
              <a:t>:</a:t>
            </a:r>
            <a:endParaRPr b="0" lang="en-US" sz="32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lt;a href=http://workerbee.igb.uiuc.edu:8080/BeeSpace/SearchServlet?query=$name&amp;cid=2293&amp;submit=Summarize target=_blank&gt;$head_name&lt;/a&gt; Details");</a:t>
            </a:r>
            <a:br>
              <a:rPr sz="2600"/>
            </a:br>
            <a:endParaRPr b="0" lang="en-US" sz="26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Future of Beespace</a:t>
            </a:r>
            <a:endParaRPr b="0" lang="en-US" sz="4800" spc="-1" strike="noStrike">
              <a:solidFill>
                <a:srgbClr val="000000"/>
              </a:solidFill>
              <a:latin typeface="Impact"/>
            </a:endParaRPr>
          </a:p>
        </p:txBody>
      </p:sp>
      <p:sp>
        <p:nvSpPr>
          <p:cNvPr id="2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cial networking integration</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ition of Gene Ontology search tool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luster, Analyze</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witching and set operations for collection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nion, Intersection, Diff, etc</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rther refinement of AJAX interface</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Browse Integration</a:t>
            </a: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General meeting with brainstorming</dc:description>
  <dc:language>en-US</dc:language>
  <cp:lastModifiedBy>Barry Sanders</cp:lastModifiedBy>
  <dcterms:modified xsi:type="dcterms:W3CDTF">2009-01-16T17:47:28Z</dcterms:modified>
  <cp:revision>76</cp:revision>
  <dc:subject/>
  <dc:title>Brainstorming</dc:title>
</cp:coreProperties>
</file>